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EBD-B231-4DB4-8278-8062ADF2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304-2BA0-4EAC-B0B9-7049A255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1EC-49B5-4549-BC7B-FE555D1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C17-F9EC-4FDF-960F-778194C9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7A7-B61F-4719-9182-0988823B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855E-BAAC-4A4D-B7E3-6122240B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B9CC-1FE1-4B48-8864-3362538F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253-844E-4B33-B452-80E5CBDE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5D2D-5B58-4B0A-B514-A5129977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C142-7708-44A1-9B62-C0C4E652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B5B9-8886-4258-A42A-EF08D79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FAA-2E3E-4592-982F-EFCBCEFE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E5D6-0901-4A95-A16F-FC79E21F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385C-F3D3-4FD5-BDA6-4F5311C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D027-0E54-48D6-9BC0-C1342D8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FCC-7AC7-4CEF-9A69-9544F89B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14F-7C5E-416E-8FF6-B58D78F8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906-CFBB-4DB7-9278-A4B86EBF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3F-62C7-4F89-9E5B-949F34EA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B78-0CA6-4B21-9961-745F726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25C-551B-44E7-B18E-1EC65EDB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D33-D5AC-4D07-9363-62B5927A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A7E-C139-48A9-AA04-26E8969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8C3-525A-4466-B1F1-1558D7C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6636-4375-4A00-9738-E7BDC9CF7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05A1-35CA-48CA-B8C7-C386A5964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4.xml"/><Relationship Id="rId9" Type="http://schemas.openxmlformats.org/officeDocument/2006/relationships/slide" Target="slide38.xml"/><Relationship Id="rId10" Type="http://schemas.openxmlformats.org/officeDocument/2006/relationships/slide" Target="slide26.xml"/><Relationship Id="rId11" Type="http://schemas.openxmlformats.org/officeDocument/2006/relationships/slide" Target="slide50.xml"/><Relationship Id="rId12" Type="http://schemas.openxmlformats.org/officeDocument/2006/relationships/slide" Target="slide16.xml"/><Relationship Id="rId13" Type="http://schemas.openxmlformats.org/officeDocument/2006/relationships/slide" Target="slide28.xml"/><Relationship Id="rId14" Type="http://schemas.openxmlformats.org/officeDocument/2006/relationships/slide" Target="slide40.xml"/><Relationship Id="rId15" Type="http://schemas.openxmlformats.org/officeDocument/2006/relationships/slide" Target="slide52.xml"/><Relationship Id="rId16" Type="http://schemas.openxmlformats.org/officeDocument/2006/relationships/slide" Target="slide18.xml"/><Relationship Id="rId17" Type="http://schemas.openxmlformats.org/officeDocument/2006/relationships/slide" Target="slide30.xml"/><Relationship Id="rId18" Type="http://schemas.openxmlformats.org/officeDocument/2006/relationships/slide" Target="slide42.xml"/><Relationship Id="rId19" Type="http://schemas.openxmlformats.org/officeDocument/2006/relationships/slide" Target="slide54.xml"/><Relationship Id="rId20" Type="http://schemas.openxmlformats.org/officeDocument/2006/relationships/slide" Target="slide20.xml"/><Relationship Id="rId21" Type="http://schemas.openxmlformats.org/officeDocument/2006/relationships/slide" Target="slide32.xml"/><Relationship Id="rId22" Type="http://schemas.openxmlformats.org/officeDocument/2006/relationships/slide" Target="slide44.xml"/><Relationship Id="rId23" Type="http://schemas.openxmlformats.org/officeDocument/2006/relationships/slide" Target="slide56.xml"/><Relationship Id="rId24" Type="http://schemas.openxmlformats.org/officeDocument/2006/relationships/slide" Target="slide22.xml"/><Relationship Id="rId25" Type="http://schemas.openxmlformats.org/officeDocument/2006/relationships/slide" Target="slide34.xml"/><Relationship Id="rId26" Type="http://schemas.openxmlformats.org/officeDocument/2006/relationships/slide" Target="slide46.xml"/><Relationship Id="rId27" Type="http://schemas.openxmlformats.org/officeDocument/2006/relationships/slide" Target="slide58.xml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6.jpeg"/><Relationship Id="rId33" Type="http://schemas.openxmlformats.org/officeDocument/2006/relationships/audio" Target="../media/jeop.wav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Double 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8240" y="1535040"/>
          <a:ext cx="76820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535040"/>
                    <a:ext cx="76820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656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65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64832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88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8"/>
          <a:stretch/>
        </p:blipFill>
        <p:spPr>
          <a:xfrm>
            <a:off x="838080" y="11430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9"/>
          <a:stretch/>
        </p:blipFill>
        <p:spPr>
          <a:xfrm>
            <a:off x="236232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0"/>
          <a:stretch/>
        </p:blipFill>
        <p:spPr>
          <a:xfrm>
            <a:off x="388620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1"/>
          <a:stretch/>
        </p:blipFill>
        <p:spPr>
          <a:xfrm>
            <a:off x="5410080" y="114300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2"/>
          <a:stretch/>
        </p:blipFill>
        <p:spPr>
          <a:xfrm>
            <a:off x="6934320" y="1143000"/>
            <a:ext cx="152712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92880" y="6095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3080" y="6095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40640" y="6095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4880" y="61722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2440" y="5867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ignificance of this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Romanes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ajor pilgrimage church because of the remains of St. Mary Magda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of a major pilgrimage trail that ends at Santiago de Compost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2160" y="316872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st Jud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360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3240" y="316872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un Cathedral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st Façade Tympan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92880" y="3168720"/>
            <a:ext cx="61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chur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3240" y="3168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20-113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selber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it sh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ages of the apocalyp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70640" y="3124080"/>
            <a:ext cx="75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John the Evangelist from the Gosp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of Abbot Wedri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93240" y="3168720"/>
            <a:ext cx="42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it 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91440" y="316872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vesnes, Eng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92160" y="316872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. Madele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9288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9324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90720" y="31687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14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92880" y="3168720"/>
            <a:ext cx="59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St. John the Evangel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892160" y="3168720"/>
            <a:ext cx="649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upposed writer of the Gosp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of St. Joh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ymbols located on th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- The hand reaching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Spirit- D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bot Wedricus- shown giving St. John the ink to write his gos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. John- Ea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89432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91800" y="3168720"/>
            <a:ext cx="53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y Foretold of Her Dea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9360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93240" y="316872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is image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891440" y="316872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aesta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893240" y="3168720"/>
            <a:ext cx="46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it created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893240" y="316872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iena Cathed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92160" y="316872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91440" y="31687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cc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4680" y="312408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as the Maesta Panel So Lar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92880" y="3168720"/>
            <a:ext cx="629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room for a fresco cycle in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iena Cathedral because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lls were mar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ignficance of the Mae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ided containing the life of Christ and the Life of the Vir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patron saints of Si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the most important panel painted in Ita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92160" y="316872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zelay, F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894680" y="3168720"/>
            <a:ext cx="56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tl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84240" y="3219480"/>
            <a:ext cx="46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- La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93960" y="316872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ation (include c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892880" y="316872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na Chapel, Padua 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93960" y="3168720"/>
            <a:ext cx="46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time perio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891440" y="3168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th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893240" y="3168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d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04-13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892520" y="316872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the arti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891440" y="31687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ot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94680" y="3168720"/>
            <a:ext cx="54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relics are located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as it buil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tone for the sin of usury committed by Scrovegni’s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095880" y="36957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86080" y="2133720"/>
            <a:ext cx="257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ze Do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rence Bapt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th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30-133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lt Bron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rea Pis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t Wax- technique using wax molds to make a large scale bronze 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the life of St. John the Bapt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scenes in each do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5200" y="312408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emains of St. Mary Magda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95040" y="3168720"/>
            <a:ext cx="59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mportant historical ev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started he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92160" y="316872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hird Crus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4-12T16:56:46Z</dcterms:modified>
  <cp:revision>18</cp:revision>
  <dc:subject/>
  <dc:title>Jeopardy</dc:title>
</cp:coreProperties>
</file>